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919-988F-434E-B22D-12B28F05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403-B63D-43AF-BDAD-0F789F31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2C-7523-43F5-BED1-36D5648B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20E-8C69-41C4-B9A0-A7844839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E92-B78D-4A3D-9D43-5E62D56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2CA-121E-49ED-B359-EFBA60F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87C-F7EE-4BF0-9FD6-212EAC69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163-83D7-40ED-8C36-EAF0E2C9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E02-BA6D-4F2D-A68F-812A691E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EEE-95C6-4583-B9F2-A86D497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2FB-A078-4438-ADA2-2175DD8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FF0-931B-4095-B997-4C29067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2CC-D8A4-4522-AE27-2D4E5B2A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-100080"/>
            <a:ext cx="4500720" cy="10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99"/>
                </a:solidFill>
                <a:latin typeface="comic"/>
              </a:rPr>
              <a:t>2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вое, Христе, е делото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в което работим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защото е Твое, т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е ще да загине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Зъ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ното трябва да умре, преди то злак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да свий, простре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пазвата на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там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чрез смърт;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в смър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529272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, Спасителю, страда, преди да стигнеш са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небесний до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вои чада след Теб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викаш т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, Боже, част на всички нас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 страданията на наший Спас; води ни в Твойта светлина, макар през смъртна долина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към светлин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мрак към светл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44280"/>
            <a:ext cx="4429440" cy="8867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 бе скри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черна пръст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цял свят за да живей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ся Ти горко и на кръст, нас радост да ог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дай по целий земен шар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знаят Тебе, своя Ца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на Твоя път прати и нас във някой къ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ати нас в някой кът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20:52Z</dcterms:created>
  <dc:creator>TrifonTrifonow</dc:creator>
  <dc:description/>
  <dc:language>en-US</dc:language>
  <cp:lastModifiedBy>TrifonTrifonow</cp:lastModifiedBy>
  <dcterms:modified xsi:type="dcterms:W3CDTF">2005-12-01T20:28:46Z</dcterms:modified>
  <cp:revision>7</cp:revision>
  <dc:subject/>
  <dc:title>Slide 1</dc:title>
</cp:coreProperties>
</file>